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C140-8A71-4406-BED1-2E7F8A239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ACA9-02DC-498C-9CE8-F540F6D53F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2A29-F301-4D86-BAF7-E5CC7D6584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9EB9-AB7C-4190-9361-AA27AC40F8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63B8-8FDC-432F-B1B9-C0E51073A7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8012-A5DA-49DB-A8FB-FADFCD0D7B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E777-4FC8-449C-9D45-F39385E485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D930-4CCD-4396-8108-0F4FFC9A92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5D41-BF1C-4193-A6B1-26DF15EDA6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C603-D2A9-4742-9EA3-285A33A23C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3B0F-984E-43F6-992A-475ACA9E34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38B7-30F6-4CE2-BD62-2CED353838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B5C9-6AF1-4673-A274-D451420D34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BC1C-8CA6-4099-B936-973FAF6D4A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5E08-1126-4A24-9DFA-D0C1B874B9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CFA5-84FD-47E1-BA5D-51F1E351A2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7C50-0B4D-4A81-865E-26EA84807E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9978-F754-4DCC-86FF-EB471D666B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2A61-D220-4C36-A64C-C9CCE0E974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A999-D08F-44F9-BFFF-DBC7A2C4EF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ED55-8E22-459B-B9E5-B32FCD5277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A445-29B9-455B-B7F1-AC8B98A754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83BF-377C-40E7-AA88-9890E598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42F9-BBD0-49D0-846D-8E84B23D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09A7-942B-4914-8499-3AF3EFD0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C77F-CBA7-4D00-94EE-18E19DB7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54D5-177E-48AE-9392-2813E803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FE90-03E6-4F49-8660-C626F90A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5A3D-85D5-4DC7-9411-A71CD6A9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009D-F222-4789-B4C9-A7D17C35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203D-2DD3-4C52-9630-EBFA7A46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A065-138C-4D54-A122-C8DFA1E8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86D4-E7D8-4008-A388-9A2B7BA9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454D-8893-4E86-BC25-7118CC56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7BA9-B532-4014-A561-0D519DAB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9F5D-763E-4DD5-9E96-59437FDF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215F-4B87-40FE-8159-A7EEF325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F0EA-D6CE-467C-A784-0D74A0FE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62DB-48A2-4173-8125-2B69518B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E0FFB-7135-41EA-8844-C729C8CE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A580D-4E96-4AAC-882D-44167DAE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5163E-D6DB-4216-8C49-FD9E37C9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07705-6AF4-47BE-B2C4-47E78AD8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90E20-0735-4397-9B31-860B005D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E69A-86D4-4E86-9088-74950AFF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0A464-361B-4568-BE96-36EF5134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DB282-FE8F-44B4-A841-94A0E60B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F846C-4F86-4593-B698-6270B408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18C1D-34CF-4345-87F4-D1BC820D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7AAF0-6E4A-445D-B7AE-1EC619E0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5E54D-C550-46B1-A6FE-7A070D40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8AF5F-9C06-4480-A4E7-57F1961B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7B45D-F8D3-4D7F-8825-10AD376D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10691-295A-4FE2-B762-3B3EB004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66C77-3EBC-4985-81CD-A6EF25F3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7190-8DFD-437F-89AA-10DD7A9A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CBE3A-A77D-4EBC-A1A3-DAF394EA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C05D9-96AA-41FC-80C1-F76980CF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ADB4F-7A10-48BA-AAEB-17CE3C7D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28462-672D-434C-9EC0-84BA0998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29CBC-C3B1-437B-97C6-99723CD4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FF55D-F8E7-4109-ADFF-9CF6831F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A4996-7DBA-43AD-9BB5-5C39A057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E7AD2-C56E-4E5A-89A2-BB2FD596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589B7-A35D-4585-B14D-2C1BA7EB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48B7-7807-4009-A729-E446B7F8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054E-62FA-40B2-95EC-6ED56467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779F-80DE-41D9-A95F-20D005B1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62F3-C720-4EB1-ACF6-6B1A9FFA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8A0F-AA68-480A-9512-A8839CD8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8954-EB3E-45C9-BE15-1463E2A9A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34E5-9031-4F8B-B4FF-A29C31FF8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9DA4-5B09-4DA6-9678-B0F9C7BDC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58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a58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3F21-8B71-4713-83F0-5C5D80508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EW 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 + Cl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Cl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3429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So in this equation you have </a:t>
            </a:r>
            <a:r>
              <a:rPr b="0" lang="en-US" sz="4000" spc="-1" strike="noStrike">
                <a:solidFill>
                  <a:srgbClr val="00ff00"/>
                </a:solidFill>
                <a:latin typeface="Trebuchet MS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x 1 sodium atoms being added to 2 chlorine atoms yielding </a:t>
            </a:r>
            <a:r>
              <a:rPr b="0" lang="en-US" sz="4000" spc="-1" strike="noStrike">
                <a:solidFill>
                  <a:srgbClr val="00ff00"/>
                </a:solidFill>
                <a:latin typeface="Trebuchet MS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x 1 sodium chloride molecu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0" y="34290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When we balance chemical equations, we need to figure out what coefficients to us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0" y="3429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o do that, we list how many atoms of each element we start with, then use math to figure out the coefficien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0" y="342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n this equation, we start with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362320" y="4191120"/>
          <a:ext cx="3657600" cy="2476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act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du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0" y="2819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Our hydrogen is balanced, but we don’t have enough oxygen in the produc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362320" y="4191120"/>
          <a:ext cx="3657600" cy="2476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act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du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0" y="2286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e need to make our best mathematical guess as to which coefficient will bring balance to the equ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362320" y="4191120"/>
          <a:ext cx="3657600" cy="2476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act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du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___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86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e need two oxygen atoms, so lets try a coefficient of 2 in front of the produc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362320" y="4191120"/>
          <a:ext cx="3657600" cy="2476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act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du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19"/>
          <p:cNvSpPr/>
          <p:nvPr/>
        </p:nvSpPr>
        <p:spPr>
          <a:xfrm>
            <a:off x="5334120" y="1523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___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0" y="2286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Multiply that </a:t>
            </a:r>
            <a:r>
              <a:rPr b="0" lang="en-US" sz="3600" spc="-1" strike="noStrike">
                <a:solidFill>
                  <a:srgbClr val="00ff00"/>
                </a:solidFill>
                <a:latin typeface="Trebuchet MS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by the subscripts for each atom in the produc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362320" y="4191120"/>
          <a:ext cx="3657600" cy="2476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act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du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19"/>
          <p:cNvSpPr/>
          <p:nvPr/>
        </p:nvSpPr>
        <p:spPr>
          <a:xfrm>
            <a:off x="5334120" y="1523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4952880" y="5791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4952880" y="5029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___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0" y="2286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Now we have enough oxygen, but too much hydrogen.  How do we balance i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362320" y="4191120"/>
          <a:ext cx="3657600" cy="2476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act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du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Text Box 19"/>
          <p:cNvSpPr/>
          <p:nvPr/>
        </p:nvSpPr>
        <p:spPr>
          <a:xfrm>
            <a:off x="5334120" y="1523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4952880" y="5791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4952880" y="5029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+ ___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 ___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Berlin Sans FB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0" y="2286000"/>
            <a:ext cx="914400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If we put a coefficient of </a:t>
            </a:r>
            <a:r>
              <a:rPr b="0" lang="en-US" sz="3600" spc="-1" strike="noStrike">
                <a:solidFill>
                  <a:srgbClr val="00ff00"/>
                </a:solidFill>
                <a:latin typeface="Trebuchet MS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in front of the 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 on the reactants side, we can balance the equ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362320" y="4191120"/>
          <a:ext cx="3657600" cy="2476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act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du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-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Text Box 19"/>
          <p:cNvSpPr/>
          <p:nvPr/>
        </p:nvSpPr>
        <p:spPr>
          <a:xfrm>
            <a:off x="5334120" y="1523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4952880" y="5791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4952880" y="5029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3048120" y="5029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3"/>
          <p:cNvSpPr/>
          <p:nvPr/>
        </p:nvSpPr>
        <p:spPr>
          <a:xfrm>
            <a:off x="2362320" y="1523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When pieces of matter come together or break apart, it is called a </a:t>
            </a:r>
            <a:r>
              <a:rPr b="0" i="1" lang="en-US" sz="3000" spc="-1" strike="noStrike">
                <a:solidFill>
                  <a:srgbClr val="ffffff"/>
                </a:solidFill>
                <a:latin typeface="Trebuchet MS"/>
              </a:rPr>
              <a:t>reaction</a:t>
            </a: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e law of conservation of matter states that matter can not be created or destroy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In any reaction, you must have the same amount of each part before and after the reaction happe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We show how reactions become </a:t>
            </a:r>
            <a:r>
              <a:rPr b="0" i="1" lang="en-US" sz="3000" spc="-1" strike="noStrike">
                <a:solidFill>
                  <a:srgbClr val="ffffff"/>
                </a:solidFill>
                <a:latin typeface="Trebuchet MS"/>
              </a:rPr>
              <a:t>balanced</a:t>
            </a: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 by using </a:t>
            </a:r>
            <a:r>
              <a:rPr b="0" i="1" lang="en-US" sz="3000" spc="-1" strike="noStrike">
                <a:solidFill>
                  <a:srgbClr val="ffffff"/>
                </a:solidFill>
                <a:latin typeface="Trebuchet MS"/>
              </a:rPr>
              <a:t>chemical equatio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ultiply the number of atoms you have by coefficients to balance equa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ultiply coefficients by every subscript until you hit a + or a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Never, ever, </a:t>
            </a: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EVER</a:t>
            </a: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 change a subscrip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ake a list of how much of each atom you have and change it as you add coefficients to your equ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00"/>
                </a:solidFill>
                <a:latin typeface="Trebuchet MS"/>
              </a:rPr>
              <a:t>If there are poly-atomic ions on both sides of your equation, don’t separate them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rebuchet MS"/>
              </a:rPr>
              <a:t>Quick Chec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___Al(OH)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+ ___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___Al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(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)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+ ___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O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 + Cl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Cl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981080" y="3429000"/>
            <a:ext cx="5410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is is a balanced chemical equa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 + Cl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Cl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34290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rrow is called the </a:t>
            </a: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yields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 sign.  It separates what you start with on the left from what you end up with on the righ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Na + Cl</a:t>
            </a:r>
            <a:r>
              <a:rPr b="0" lang="en-US" sz="3200" spc="-1" strike="noStrike" baseline="-30000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Cl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0" y="342900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o the left of the yields sign are the parts that react.  They are called the </a:t>
            </a: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reactants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 + Cl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NaCl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0" y="34290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o the right of the yields sign is what you end up with after the reaction.  These are called the </a:t>
            </a: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products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 + Cl</a:t>
            </a:r>
            <a:r>
              <a:rPr b="0" lang="en-US" sz="3200" spc="-1" strike="noStrike" baseline="-30000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Cl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0" y="34290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little number next to and below an element is called a </a:t>
            </a: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subscript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.  We have been using them all along.  </a:t>
            </a:r>
            <a:r>
              <a:rPr b="0" lang="en-US" sz="4400" spc="-1" strike="noStrike">
                <a:solidFill>
                  <a:srgbClr val="ff0000"/>
                </a:solidFill>
                <a:latin typeface="Trebuchet MS"/>
              </a:rPr>
              <a:t>We never change subscripts in a chemical equa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 + Cl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Cl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0" y="34290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big numbers next to the elements or compounds are called </a:t>
            </a: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coefficients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.  These are the only things we can change in a chemical equa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rebuchet MS"/>
              </a:rPr>
              <a:t>How to balance chemical equatio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 + Cl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rebuchet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NaCl</a:t>
            </a:r>
            <a:r>
              <a:rPr b="0" lang="en-US" sz="3200" spc="-1" strike="noStrike">
                <a:solidFill>
                  <a:srgbClr val="00ff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0" y="3429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oefficients tell us the amount of each compound or element we have.  You multiply the subscript for each element to the right of a coefficient until you are stopped by a + or 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4:42:51Z</dcterms:created>
  <dc:creator>Andrea Pascasio</dc:creator>
  <dc:description/>
  <dc:language>en-US</dc:language>
  <cp:lastModifiedBy>Andrea Pascasio</cp:lastModifiedBy>
  <dcterms:modified xsi:type="dcterms:W3CDTF">2008-12-02T04:52:15Z</dcterms:modified>
  <cp:revision>1</cp:revision>
  <dc:subject/>
  <dc:title>BALANCING CHEMICAL EQUATIONS</dc:title>
</cp:coreProperties>
</file>